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6D18-BCCC-4EE5-AB05-2A5D16EF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D4FE-403A-4122-BBF2-323E67F7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36FB-985F-4B8A-B0CA-AB316BCA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4E87-3A86-4502-B965-9A086BF6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6AB3-4A39-43AD-B01D-FF0C3CD4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7B4D-6DC9-4ABA-A422-BD6B0A30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AE2D-DE8A-4575-9C6F-9469C45D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D4E4-4CE6-42D7-82A7-E1B8749F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737E-EE78-4C2B-AAAF-1AFC1103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8AC6-5830-4529-864C-443D6874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105A-2183-44BE-AD0D-A52696EC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16AD-5535-490D-8A59-C862C36D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12CE-A452-403A-BA66-5C3B414DA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library.corporate-ir.net/library/17/176/176060/mediaitems/93/a.com_logo_RGB.jpg"/>
          <p:cNvPicPr/>
          <p:nvPr/>
        </p:nvPicPr>
        <p:blipFill>
          <a:blip r:embed="rId1"/>
          <a:stretch/>
        </p:blipFill>
        <p:spPr>
          <a:xfrm>
            <a:off x="1598760" y="4572000"/>
            <a:ext cx="3117600" cy="914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180040" y="4313160"/>
            <a:ext cx="2211480" cy="912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12193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ke Data Usefu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g Li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d mat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100ms delay costs 1% of s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and 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with big dat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to be part of initial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out some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, then optimize toward a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data first, then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users to forgiv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get in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e, aid discovery, focus on the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d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go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lgorithms versus bi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people discover useful new stuff quick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go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what are you optimiz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ing and optim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/B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, learn, improve, it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courage experimentation ... as much of it as possibl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Jeff Bez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80480" y="23623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737"/>
                </a:solidFill>
                <a:latin typeface="Arial"/>
              </a:rPr>
              <a:t>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10760" y="3048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737"/>
                </a:solidFill>
                <a:latin typeface="Arial"/>
              </a:rPr>
              <a:t>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60320" y="236232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737"/>
                </a:solidFill>
                <a:latin typeface="Arial"/>
              </a:rPr>
              <a:t>Vis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89440" y="29718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737"/>
                </a:solidFill>
                <a:latin typeface="Arial"/>
              </a:rPr>
              <a:t>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47880" y="36576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737"/>
                </a:solidFill>
                <a:latin typeface="Arial"/>
              </a:rPr>
              <a:t>Customer acqui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9440" y="320040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737"/>
                </a:solidFill>
                <a:latin typeface="Arial"/>
              </a:rPr>
              <a:t>Time on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4880" y="2286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737"/>
                </a:solidFill>
                <a:latin typeface="Arial"/>
              </a:rPr>
              <a:t>Cli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hms versus big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orry about the data first before you worry about the algorithm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 - Peter Norv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0" y="1676520"/>
          <a:ext cx="4038480" cy="38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676520"/>
                    <a:ext cx="4038480" cy="38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5410080" y="5638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Banko and Brill, 200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 expec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positives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should encourage users to forg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09480" y="2743200"/>
          <a:ext cx="7769520" cy="40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743200"/>
                    <a:ext cx="776952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 usef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get in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when help is wa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books on detail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pping cart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the home page content on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iased view of the Amazon cat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676520" y="3657600"/>
          <a:ext cx="5448240" cy="11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657600"/>
                    <a:ext cx="544824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cus on dis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s should be non-obv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s should be hard to find your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ke against content-based techniq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overy is when something wonderful that you didn't know existed, or didn't know how to ask for, finds you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 - Fortune Magaz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as toward new i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probably have not seen them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ed alerts, an implicit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l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h, helpful, surprising, us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as toward recent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the current 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eople are doing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eople need help with right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cy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ke against profile-based techniq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219320"/>
            <a:ext cx="82296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9:56:58Z</dcterms:created>
  <dc:creator>Greg Linden</dc:creator>
  <dc:description/>
  <dc:language>en-US</dc:language>
  <cp:lastModifiedBy>Greg Linden</cp:lastModifiedBy>
  <dcterms:modified xsi:type="dcterms:W3CDTF">2006-11-30T21:00:15Z</dcterms:modified>
  <cp:revision>14</cp:revision>
  <dc:subject/>
  <dc:title>Greg Linden</dc:title>
</cp:coreProperties>
</file>